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E98-3BB6-4FDF-8A7F-72757545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89E-6ACB-4A21-BB8F-462C2BF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6F3AF-D6A8-49A9-BFA4-C7A61C6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C5496-7F41-4AA3-8B63-782356B3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5F18-DF0C-4E25-95A1-C88B2C3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DA453-C4DE-4CD7-89A8-A53E7CA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6694B-EED2-471F-A9B1-AF4582C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CAB8-FB6C-4229-BFBE-F3847F4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42EA7-FCDD-4C2B-BEC7-3319F693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DDEE2-B3B1-443B-865E-A46D5815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E1E52-F116-47E8-94D4-357B4D24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4044-854E-4F95-A350-48BFD6B1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6BF-3486-4063-8327-66BDE76A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90F31-88D2-452D-A9C3-E85B411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6B685-CA2E-48F4-B0B3-C587B6E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90D9-B532-4EFC-980E-EAF584A7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B45D-1290-473E-B69D-B1045642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2CFE-AAD9-4574-B772-D7B0F2D8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49136-E9A8-4920-AEED-6C24CDA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38845-A77B-4D01-85D4-23E83A3E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813D-B343-414D-B1E5-BF62BDF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74BB-A0DC-4E9E-843E-57E6E9BF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6D134-3B40-4A85-8488-64785E6D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F25-7F75-475A-9BC6-28913E10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04EB3-5336-454F-A3C0-0DFC050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CA1D-B5EA-4434-A41E-65AC585F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DBCC-B2E8-4D6E-AE19-0F6F17C9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3EE0-519B-44AA-9EFA-A5A3E60E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C607-5742-4338-8E6E-B5D1F9C8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1AEC-9333-4570-BA7F-DEDCAF5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F0DE-D8D7-4400-BC45-B6DF5F4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D5E6-616C-42C4-8CE1-C953712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3685-28E1-4920-9936-30FE4EC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DCB79-95D9-4EE2-849C-A3458E8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B00-D3DA-4277-8B5E-80BD5454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74CD4-E704-4B38-8D33-4A3F8A7D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E50B-0BC8-4CCA-88DD-083E92A0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32691-268F-410A-8CB8-AB7EDA4D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5B2DA-C999-4F2F-9BCC-A3014D7A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6B14B-F5B9-48C4-A6C8-097297DD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88F3B-0BCD-40C3-9AE1-520BEFD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693E3-379D-4C35-8645-9B2F1ED5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4D0CC-3744-41A0-8B38-4E0B3E7E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1CEFD-444E-49F9-A0C5-C4331482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D0C4F-6FE9-4D74-949D-99C2201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3A8A-987D-460D-AB50-6FCD9FF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C8B72-6A2B-4E9F-B133-1A61F22F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42C9-DCE4-4101-8D06-FA66F25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A1A1F-5273-4E5D-B4EA-D112B3E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C3134-60CD-4A00-ACF9-EB715283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70A2B-84E1-4EA5-8B86-D0ADE08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26D69-089E-4BE2-B1C7-631E3B6D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68445-8C48-4DB0-A0B3-BD0A815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4BF97-F3DD-4910-8C09-F3F6047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E698C-6C9E-465F-A39D-3BA00FC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2E4F7-C693-4BEE-9C2D-9B633BC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699-5F65-4751-8F0C-99D082B4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2169E-4DCB-49C3-B4DA-EAC0EF00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E2270-FDC8-492E-9091-A2CC7AD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24642-9AE0-4C80-A871-8FB3244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8D82C-26B1-457D-B415-FBE61F7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4E300-6892-46E7-A3D6-04BF473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D7E4C-AB06-4A9D-8F0B-90473902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E7F7E-163E-48E6-B04F-C64D194F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21F72-894E-433F-9521-946DFFB0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0872B-9BB6-45D6-B8A3-D51F85C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0F75C-95F0-4DD4-A9F3-A76F6FA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6BCC-B0A6-4357-89DC-65090CFC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72A70-2778-496E-B63D-B0BC934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2ED44-D67E-4129-A50B-EABEE64B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6706B-97A4-45E8-907F-5BC65B74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846A2-D895-4606-8D50-F56C78F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F8B49-317B-476D-B7BB-E1315AF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BE2EF-5CE4-45C2-95AC-C6155B7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E4DA5-8E57-410C-8EA1-D3123ACC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D713D-1F50-4840-A97F-192206CB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BFE50-48E1-436A-8520-6CB9956C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33991-A29F-4931-B7D1-D085E2B0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62EA-7CEF-4FE1-9981-9E1F016E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2C425-A349-4DB9-8A04-76C8E89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F700F-E4D8-4C63-87EE-C3472C9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F5BFA-5248-47F8-8BE9-1C1FF36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BA1FC-00CB-4767-9A75-1E10907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6EEEC-DC83-405A-9370-CC47F08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0169B-24B5-48D5-9053-3120758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5FBD1-7B30-41FE-A04D-3703E9B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E3D08-09B5-4800-9491-C1B6284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750F7-B50A-4BBC-8F80-EF0A0A32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36A14-73E3-460B-809C-7E98AE77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C4F1-C00A-4BED-81C2-97D4DCD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10C27-CD04-4FEE-8267-7B3C72F9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DF97D-4EF1-4A6C-8DE7-DB5A40C5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78D8B-A62F-4D6F-BC16-A92A43F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2010F-A59F-43CC-A8F8-84F3FA80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52D73-07AA-44F5-A922-12C0B43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9FB17-95EA-4F47-AD12-5B5A588D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13AD1-6A8F-49C5-AF06-75E90E3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68C74-241B-49F7-9746-D11DEF8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B0A72-AD9F-414C-AF33-9775007A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C0B0D-4AD3-4C8E-8E17-BE70234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946-610C-41FB-AF09-5F77C2B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004C6-9627-40B4-807C-6E743B82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BB2BA-5C7D-4038-B99D-5EAD493C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CA6E1-2D95-499A-BA9C-C2C1FA36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3B16A-1646-4E73-85D9-D10777A9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331D9-6FA5-411F-8077-F11D884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736D7-AC89-4A26-988F-DB7572C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0CE87-489F-4B0B-B6E6-F0AE65C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C8BFF-D12C-450B-9196-17C4A2B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D64CF-086B-4D01-A90A-0529A403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6D8DC-7C2D-47CF-9AB6-0AC2375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A5F-586C-4EEA-A266-DB862F3C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24E-6884-475B-A6F5-C23C5B6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12B4A-0021-47E5-B378-7DBD345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FBA53-B3D2-430F-B4C0-683FB0A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707AA-7A28-44ED-9491-168E776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595C7-A6CC-4843-A36C-42425AE3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510FB-35F2-4E19-9659-C6F0488D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F7C37-C1D8-4EC7-9BAF-B517DB48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A36BA-D6CF-4A6E-A032-CF45598E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17732-4B54-450B-8A35-323412A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2D15F-4088-4629-B544-289E47A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18E5D-D477-4930-B678-886900E9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832-DBA7-4988-8AF7-482CE80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F8160-96A7-4D38-8373-F11A435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BFF7E-E83A-45C3-AF7B-0B8CC32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F1A9F-FD8E-4286-A95D-18A2E1B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95725-54D9-4615-9F26-7175B05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DD9BA-3280-4E62-90A4-EB9F434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EC14D-C047-428B-BBC1-B82523E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406A0-F512-4E4E-8148-4A082822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EE039-7EEC-4D86-863D-35062A5D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6116E-CF1B-48F3-8B18-2A0B3BC7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95431-0408-4984-903B-5A7827F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008-BD5D-4FD4-B687-CAB1E4A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01C0D-A0A0-4A04-B386-26E7AD3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A58CC-F7FA-4565-B75D-2F4412F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CE261-CAA6-4194-910C-29B97E7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8AF74-510B-48F7-BDD0-AA38FA1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FD018-8D92-4DB7-BA44-5083AD7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030E7-A5A8-4BFB-A17F-93AC165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B3D26-DD7D-4409-B77D-FAA7CEE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E234E-83E7-467D-B524-2E63CC2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18110-202A-470E-AFB2-78D8BF30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28AE0-238D-4515-8AE7-8949C044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F55-FBAC-4F45-9972-AC645EBB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55993-9B0A-4BC6-B583-6729D25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35433-5D1A-4F49-85D6-34DE0BA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F8813-4AB7-469A-8105-6FDD781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6A1E6-2A06-4718-89CF-B8D7807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D4FEC-DE10-4E18-BCCD-674CEDD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EA6A3-D278-46B8-9C40-7DF6435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807BA-CA2A-40DF-90FC-2F7988F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937BA-22A4-4FE4-9BBA-0763B17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7D70E-B52D-4643-883B-0730477E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DAC8F-0305-4840-9660-3F530ED2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DC37-7E36-4F41-889C-1082D8E8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16F02-3B77-4D93-A56E-3BDCB9AE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6DCE-7733-42AC-80E0-3BDF5D24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AF6B-5DE5-4545-B99D-4962158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002F-2AAF-4993-80F0-C685971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4DF6-8AC9-4897-9966-E40F9A2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2C82-2FBB-45B9-B185-D0963A8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07E-9641-4EA8-9ED1-B9DBC3F1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ED01-1C2F-4789-ACFC-FC7609B7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88F0-F8D0-4924-AE9E-CE40D2A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1754-A269-4A4A-B7B3-FAF93D4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27A5-A3F4-47E5-AC19-83F33F1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5C9D-3521-404E-B9F0-1314707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AD9D-AF3C-4362-BFFA-FBD65553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F515-4AAC-4677-A95A-3B956C22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1778E-0872-4A8D-81D7-980242AE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D26E1-E468-4C72-820D-8FB2B2D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55E9E-25C7-4B0E-8ED6-DCFC447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497-6A95-4E46-B55B-E3E49ED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00765-6A11-433E-ADC2-D1E81FFE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431F3-9DF2-4162-BE39-AEB2752D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412CF-2D50-43C6-B8CE-DFFEB7C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D187E-C3DF-4326-804B-36C69E5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E4B30-091A-45DB-8265-C64B788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5A51A-EF28-4BFB-8431-EF95C9A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415A9-1806-41EE-9AFD-F786AA53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2B766-403E-47B5-A7C2-2869ABCD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6D28D-906B-4510-98E9-B386B504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D8E7-9427-4B10-B814-E5C1AB05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A7C-B66F-4F47-8597-76742B8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97F8-33FC-4DB0-A41E-E64489E5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55F6-7658-4666-AC37-2AC3B64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BEF35-CED0-4724-989F-CB4D28C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AF09-BE9E-4D7E-99A6-37D6D16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6694-F148-492F-BBC9-1870E5E8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DFEF-A03E-4A1B-BA45-E87D251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30BA-CA1F-47FA-A5CB-FB15A0F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6B55-7BD5-4918-9F75-557D545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3800-7B23-4842-A021-F21ACAD9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C1D0-0F6C-4832-91D1-8A85440C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4CB-D311-46A3-86C9-D14B496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41D9-6C06-4EA4-97DA-8DCE8DBC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9D69-FC09-4297-933E-40BC3412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E175-AF9B-4B21-A2C7-F2A43F9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DC42B-E4F0-429A-A9E6-1587809A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764D-030D-4C41-9C8A-A9BC880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3F20-3F72-4774-A49C-17F500C3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14CC4-E397-4BAF-87A8-9D2C594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70FC-B2EE-46D4-8F6E-4D0654D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92B2-6362-4F9C-91FE-CB1C704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0689-E01E-4CD8-ADB4-712A8BD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42D-6B04-4E0B-B9EF-8142E03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1A29-8CCE-4B07-8165-EEB5036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56FE-2CC8-4326-99D2-9496C28F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874B-A24E-4D9A-8B14-39537B76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E65B1-F84D-4261-8B83-6EBCE033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6C9C3-97F7-4D01-9F44-015A63D7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4B0E-123D-4069-B202-BD02E93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11376-9E10-4DBF-A326-47D1C2A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B41A-12B6-4E98-848B-0B2C755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FF03A-D5C7-4AC8-A3F1-C478FAE7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325FD-183F-4208-B242-006D6C7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957-3361-406E-88EE-7A902A3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9385-547B-4A07-91FA-DDDD560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7389-60D5-4ED3-9CAF-F552D2D2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CC17-6BE4-48DD-9B84-CD4987A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A0E3-6A0C-4118-AA90-83C563B0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BF2D-12F2-4E4D-AC9C-3106F869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CBE6-EB60-495A-BCE3-442C5333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1DA2-D485-4C4D-BA2D-CCE702E3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4BD2-0D37-4524-B8A7-6A99706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98F6-7BF5-4EA0-97F8-CEA7A06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08FE5-D37F-4E17-B3DE-9A3A5849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873-3B06-4B47-8BB6-81D6621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BCFF-E146-46F6-B31D-E731B6C3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0437-8D79-4B37-B72A-8B52A439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27C8C-62FD-4DD4-B70C-0737CED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AA25-3B0E-4ED2-ADC4-D66552E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7EB66-C74D-4760-B082-FEDDFB0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38F5A-6CB8-498D-854D-FC6C4D1F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711D-CA1F-49D9-8BCD-FEDF14FA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1B0C6-4774-40CF-8746-724074B2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CBD39-213A-43DF-A3E8-E15356E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ECBF2-FB10-49D7-A6E8-7A169622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5F77-B630-4027-B512-5AD3B20D6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2D0-9F18-454B-8D23-DFC366EB6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09D-0B12-4CDF-BF8A-12A0A9DE6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067B-3365-47EE-BB04-A22F4DED7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FDA-9C2C-4F3A-A608-8DDE1B7983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5ED1-867F-40E1-BBF8-1824E583B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DC4-BFAF-4326-B619-29B096846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4E9-FE00-4377-BBF1-F4CF376EC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74A-3965-43E7-A72B-CB2BBAC09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8E2-3C8E-4817-BDEB-88E0266BF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0B09-3445-4E48-8DA9-24DC8DC3AE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A84C-CC26-4622-AF20-84FA1AFC4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CC2-C145-4531-9C56-8E45A69CA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ABA8-F2D0-482F-A297-C23161D4A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11BA-4DE4-44C4-99E3-C2D685ED6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23A-D11E-4F7A-B563-A30040367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7916-6FA6-4F36-8514-6B2E09054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FBE0-5A5B-41F6-B5B2-AA966C065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A65D-846F-42E5-866F-F5BA4BF79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75F7-B16E-475D-A7AB-B139D2E5B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329-AD61-4AC0-B27F-93E786DE3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350-AAB9-4BB2-9DA5-D291F64CE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E796-9EB6-425F-B023-A98F8AA4A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3E8-1444-4A44-A5D9-D488BF18D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A0EC-1FA0-491C-B2BC-D1813DBB67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9A5-F1FE-4AF1-ADB9-678344B16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329-D5F5-4212-929C-B7480DCEC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D427-8BE4-4F57-97F7-E1E9BD471C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9A6-4AF8-4402-B9B1-B5CE11F85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61D7-A7E8-4519-BDE0-573D5C10C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8D87-CB45-4925-BA1D-AFFEA9F95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3A7-D91C-4593-B258-140BBCE0A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D39-0610-4F64-9DF7-AC9540C1B4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978-B062-4D5C-9ADB-06F1E4649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B04-D0B9-4F71-B609-AE86816E4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596-3055-4CEC-96F9-081CE97A3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9D0-A8CC-4EF7-8F11-9D8E2980E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3D0-14A8-42F2-AF51-AFF29197E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33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61144"/>
          <p:cNvPicPr/>
          <p:nvPr/>
        </p:nvPicPr>
        <p:blipFill>
          <a:blip r:embed="rId1"/>
          <a:stretch/>
        </p:blipFill>
        <p:spPr>
          <a:xfrm>
            <a:off x="409680" y="1647720"/>
            <a:ext cx="809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69633" descr=""/>
          <p:cNvPicPr/>
          <p:nvPr/>
        </p:nvPicPr>
        <p:blipFill>
          <a:blip r:embed="rId1"/>
          <a:stretch/>
        </p:blipFill>
        <p:spPr>
          <a:xfrm>
            <a:off x="380880" y="1452600"/>
            <a:ext cx="8382240" cy="39528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203640" y="441792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69635" descr=""/>
          <p:cNvPicPr/>
          <p:nvPr/>
        </p:nvPicPr>
        <p:blipFill>
          <a:blip r:embed="rId3"/>
          <a:stretch/>
        </p:blipFill>
        <p:spPr>
          <a:xfrm>
            <a:off x="1116000" y="2185920"/>
            <a:ext cx="4857840" cy="2200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96000" y="43848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5724360" y="472428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8609" descr=""/>
          <p:cNvPicPr/>
          <p:nvPr/>
        </p:nvPicPr>
        <p:blipFill>
          <a:blip r:embed="rId1"/>
          <a:stretch/>
        </p:blipFill>
        <p:spPr>
          <a:xfrm>
            <a:off x="204840" y="1319040"/>
            <a:ext cx="8734320" cy="4219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7920000" cy="319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792000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84360" y="4753080"/>
            <a:ext cx="792000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684360" y="5103720"/>
            <a:ext cx="792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7585" descr=""/>
          <p:cNvPicPr/>
          <p:nvPr/>
        </p:nvPicPr>
        <p:blipFill>
          <a:blip r:embed="rId1"/>
          <a:stretch/>
        </p:blipFill>
        <p:spPr>
          <a:xfrm>
            <a:off x="361800" y="1157400"/>
            <a:ext cx="8420400" cy="4543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468360" y="216216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2897280" y="38178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258920" y="516744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190440" y="952560"/>
            <a:ext cx="8763120" cy="4952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4830840" y="126828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267000" y="1628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2771640" y="1979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724360" y="263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2556000" y="3284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140360" y="328464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3203640" y="36259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4067280" y="35830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6873840" y="3943440"/>
            <a:ext cx="3621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971640" y="4292640"/>
            <a:ext cx="36180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2843280" y="4581360"/>
            <a:ext cx="36180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6659640" y="45910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8028000" y="5300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2330280" y="564192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4643280" y="563724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9410" descr=""/>
          <p:cNvPicPr/>
          <p:nvPr/>
        </p:nvPicPr>
        <p:blipFill>
          <a:blip r:embed="rId1"/>
          <a:stretch/>
        </p:blipFill>
        <p:spPr>
          <a:xfrm>
            <a:off x="314280" y="1405080"/>
            <a:ext cx="8515440" cy="40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028000" y="1413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2987640" y="1773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1158840" y="3068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3132000" y="3429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5292720" y="374508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6516720" y="40766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7667640" y="40766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6227640" y="44370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0"/>
          <a:stretch/>
        </p:blipFill>
        <p:spPr>
          <a:xfrm>
            <a:off x="7524720" y="443700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1"/>
          <a:stretch/>
        </p:blipFill>
        <p:spPr>
          <a:xfrm>
            <a:off x="4716360" y="50846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2"/>
          <a:stretch/>
        </p:blipFill>
        <p:spPr>
          <a:xfrm>
            <a:off x="6732720" y="5084640"/>
            <a:ext cx="287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组合 58375"/>
          <p:cNvGrpSpPr/>
          <p:nvPr/>
        </p:nvGrpSpPr>
        <p:grpSpPr>
          <a:xfrm>
            <a:off x="190440" y="838080"/>
            <a:ext cx="8774280" cy="5040360"/>
            <a:chOff x="190440" y="838080"/>
            <a:chExt cx="8774280" cy="5040360"/>
          </a:xfrm>
        </p:grpSpPr>
        <p:pic>
          <p:nvPicPr>
            <p:cNvPr id="988" name="图片 58373" descr=""/>
            <p:cNvPicPr/>
            <p:nvPr/>
          </p:nvPicPr>
          <p:blipFill>
            <a:blip r:embed="rId1"/>
            <a:stretch/>
          </p:blipFill>
          <p:spPr>
            <a:xfrm>
              <a:off x="190440" y="838080"/>
              <a:ext cx="87631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图片 58374" descr=""/>
            <p:cNvPicPr/>
            <p:nvPr/>
          </p:nvPicPr>
          <p:blipFill>
            <a:blip r:embed="rId2"/>
            <a:stretch/>
          </p:blipFill>
          <p:spPr>
            <a:xfrm>
              <a:off x="201600" y="2239920"/>
              <a:ext cx="8763120" cy="363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0" name="Picture 1" descr=""/>
          <p:cNvPicPr/>
          <p:nvPr/>
        </p:nvPicPr>
        <p:blipFill>
          <a:blip r:embed="rId3"/>
          <a:stretch/>
        </p:blipFill>
        <p:spPr>
          <a:xfrm>
            <a:off x="8172360" y="144612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4"/>
          <a:stretch/>
        </p:blipFill>
        <p:spPr>
          <a:xfrm>
            <a:off x="8172360" y="18255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5"/>
          <a:stretch/>
        </p:blipFill>
        <p:spPr>
          <a:xfrm>
            <a:off x="8172360" y="2195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6"/>
          <a:stretch/>
        </p:blipFill>
        <p:spPr>
          <a:xfrm>
            <a:off x="8244000" y="2565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7"/>
          <a:stretch/>
        </p:blipFill>
        <p:spPr>
          <a:xfrm>
            <a:off x="8244000" y="2924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8"/>
          <a:stretch/>
        </p:blipFill>
        <p:spPr>
          <a:xfrm>
            <a:off x="6659640" y="35733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9"/>
          <a:stretch/>
        </p:blipFill>
        <p:spPr>
          <a:xfrm>
            <a:off x="3995640" y="489744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图片 57352" descr=""/>
          <p:cNvPicPr/>
          <p:nvPr/>
        </p:nvPicPr>
        <p:blipFill>
          <a:blip r:embed="rId1"/>
          <a:stretch/>
        </p:blipFill>
        <p:spPr>
          <a:xfrm>
            <a:off x="324000" y="1438200"/>
            <a:ext cx="8496000" cy="3981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3"/>
          <a:stretch/>
        </p:blipFill>
        <p:spPr>
          <a:xfrm>
            <a:off x="7792920" y="27464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4"/>
          <a:stretch/>
        </p:blipFill>
        <p:spPr>
          <a:xfrm>
            <a:off x="1476360" y="376380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图片 56324" descr=""/>
          <p:cNvPicPr/>
          <p:nvPr/>
        </p:nvPicPr>
        <p:blipFill>
          <a:blip r:embed="rId1"/>
          <a:stretch/>
        </p:blipFill>
        <p:spPr>
          <a:xfrm>
            <a:off x="247680" y="914400"/>
            <a:ext cx="8648640" cy="50292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5977080" cy="3193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5977080" cy="3193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4"/>
          <a:stretch/>
        </p:blipFill>
        <p:spPr>
          <a:xfrm>
            <a:off x="1042920" y="5545080"/>
            <a:ext cx="5977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55300" descr=""/>
          <p:cNvPicPr/>
          <p:nvPr/>
        </p:nvPicPr>
        <p:blipFill>
          <a:blip r:embed="rId1"/>
          <a:stretch/>
        </p:blipFill>
        <p:spPr>
          <a:xfrm>
            <a:off x="571680" y="80964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5543640" cy="319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3"/>
          <a:stretch/>
        </p:blipFill>
        <p:spPr>
          <a:xfrm>
            <a:off x="1187280" y="5084640"/>
            <a:ext cx="748836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4"/>
          <a:stretch/>
        </p:blipFill>
        <p:spPr>
          <a:xfrm>
            <a:off x="1042920" y="5445000"/>
            <a:ext cx="748836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5"/>
          <a:stretch/>
        </p:blipFill>
        <p:spPr>
          <a:xfrm>
            <a:off x="1042920" y="5796000"/>
            <a:ext cx="74883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6"/>
          <a:stretch/>
        </p:blipFill>
        <p:spPr>
          <a:xfrm>
            <a:off x="971640" y="6121440"/>
            <a:ext cx="748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54276" descr=""/>
          <p:cNvPicPr/>
          <p:nvPr/>
        </p:nvPicPr>
        <p:blipFill>
          <a:blip r:embed="rId1"/>
          <a:stretch/>
        </p:blipFill>
        <p:spPr>
          <a:xfrm>
            <a:off x="728640" y="2481120"/>
            <a:ext cx="7686720" cy="18957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00000" y="2871720"/>
            <a:ext cx="77043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70436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826920" y="3573360"/>
            <a:ext cx="770436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826920" y="3943440"/>
            <a:ext cx="7704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52231" descr=""/>
          <p:cNvPicPr/>
          <p:nvPr/>
        </p:nvPicPr>
        <p:blipFill>
          <a:blip r:embed="rId1"/>
          <a:stretch/>
        </p:blipFill>
        <p:spPr>
          <a:xfrm>
            <a:off x="600120" y="1314360"/>
            <a:ext cx="7943760" cy="422928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52232" descr=""/>
          <p:cNvPicPr/>
          <p:nvPr/>
        </p:nvPicPr>
        <p:blipFill>
          <a:blip r:embed="rId2"/>
          <a:stretch/>
        </p:blipFill>
        <p:spPr>
          <a:xfrm>
            <a:off x="2468520" y="2892600"/>
            <a:ext cx="4724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8:14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